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3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6.jpeg" ContentType="image/jpeg"/>
  <Override PartName="/ppt/media/image28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CF0E-2BF4-4D46-B181-D7D00F98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5541-1D1A-49AE-90CA-8ED8E8FD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6B8-C39B-48E3-8A2C-207CEE53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3E5B-DF68-4284-9F11-D3A2036E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7390-794C-40D5-AD42-16B31DEA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A43A-416C-44C2-B6FC-0D66183D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3C1-9FE8-4DF7-A213-8F0DD708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367-EC7C-4143-ABA2-9B407298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B82E-DD29-4EAE-A4FF-2A0BB0EE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0753-77CD-4398-B946-0A0EEA65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4319-B9DA-4633-A5FC-3251683F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573-EC57-4395-94DA-ED3DAC5F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B81E-5410-47C2-9098-60D4525CC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90920" y="9360"/>
            <a:ext cx="5257440" cy="2124000"/>
            <a:chOff x="2590920" y="9360"/>
            <a:chExt cx="5257440" cy="2124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2652480" y="9360"/>
              <a:ext cx="519588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590920" y="9360"/>
              <a:ext cx="657000" cy="87372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48" y="384"/>
                  </a:moveTo>
                  <a:lnTo>
                    <a:pt x="240" y="432"/>
                  </a:lnTo>
                  <a:lnTo>
                    <a:pt x="288" y="336"/>
                  </a:lnTo>
                  <a:lnTo>
                    <a:pt x="240" y="288"/>
                  </a:lnTo>
                  <a:lnTo>
                    <a:pt x="384" y="288"/>
                  </a:lnTo>
                  <a:lnTo>
                    <a:pt x="384" y="144"/>
                  </a:lnTo>
                  <a:lnTo>
                    <a:pt x="288" y="48"/>
                  </a:lnTo>
                  <a:lnTo>
                    <a:pt x="192" y="0"/>
                  </a:lnTo>
                  <a:lnTo>
                    <a:pt x="96" y="48"/>
                  </a:lnTo>
                  <a:lnTo>
                    <a:pt x="48" y="192"/>
                  </a:lnTo>
                  <a:lnTo>
                    <a:pt x="0" y="336"/>
                  </a:lnTo>
                  <a:lnTo>
                    <a:pt x="48" y="38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3960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4267080"/>
            <a:ext cx="2514600" cy="1955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809880" y="4535640"/>
            <a:ext cx="1981440" cy="798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934320" y="4495680"/>
            <a:ext cx="1076040" cy="69372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304920" y="2895480"/>
            <a:ext cx="2428560" cy="1228320"/>
            <a:chOff x="304920" y="2895480"/>
            <a:chExt cx="2428560" cy="1228320"/>
          </a:xfrm>
        </p:grpSpPr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304920" y="2989080"/>
              <a:ext cx="2428560" cy="113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04920" y="2895480"/>
              <a:ext cx="336240" cy="56160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288"/>
                  </a:moveTo>
                  <a:lnTo>
                    <a:pt x="96" y="288"/>
                  </a:lnTo>
                  <a:lnTo>
                    <a:pt x="192" y="144"/>
                  </a:lnTo>
                  <a:lnTo>
                    <a:pt x="144" y="0"/>
                  </a:lnTo>
                  <a:lnTo>
                    <a:pt x="48" y="48"/>
                  </a:lnTo>
                  <a:lnTo>
                    <a:pt x="0" y="144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429000" y="2895480"/>
            <a:ext cx="2590560" cy="1228320"/>
            <a:chOff x="3429000" y="2895480"/>
            <a:chExt cx="2590560" cy="1228320"/>
          </a:xfrm>
        </p:grpSpPr>
        <p:pic>
          <p:nvPicPr>
            <p:cNvPr id="52" name="" descr=""/>
            <p:cNvPicPr/>
            <p:nvPr/>
          </p:nvPicPr>
          <p:blipFill>
            <a:blip r:embed="rId7"/>
            <a:stretch/>
          </p:blipFill>
          <p:spPr>
            <a:xfrm>
              <a:off x="3429000" y="2988720"/>
              <a:ext cx="259056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429000" y="2895480"/>
              <a:ext cx="358920" cy="56160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288"/>
                  </a:moveTo>
                  <a:lnTo>
                    <a:pt x="96" y="288"/>
                  </a:lnTo>
                  <a:lnTo>
                    <a:pt x="192" y="144"/>
                  </a:lnTo>
                  <a:lnTo>
                    <a:pt x="144" y="0"/>
                  </a:lnTo>
                  <a:lnTo>
                    <a:pt x="48" y="48"/>
                  </a:lnTo>
                  <a:lnTo>
                    <a:pt x="0" y="144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48520" y="2895480"/>
            <a:ext cx="2428560" cy="1228320"/>
            <a:chOff x="6248520" y="2895480"/>
            <a:chExt cx="2428560" cy="1228320"/>
          </a:xfrm>
        </p:grpSpPr>
        <p:pic>
          <p:nvPicPr>
            <p:cNvPr id="55" name="" descr=""/>
            <p:cNvPicPr/>
            <p:nvPr/>
          </p:nvPicPr>
          <p:blipFill>
            <a:blip r:embed="rId8"/>
            <a:stretch/>
          </p:blipFill>
          <p:spPr>
            <a:xfrm>
              <a:off x="6248520" y="2988720"/>
              <a:ext cx="242856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6248520" y="2895480"/>
              <a:ext cx="336240" cy="56160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288"/>
                  </a:moveTo>
                  <a:lnTo>
                    <a:pt x="96" y="288"/>
                  </a:lnTo>
                  <a:lnTo>
                    <a:pt x="192" y="144"/>
                  </a:lnTo>
                  <a:lnTo>
                    <a:pt x="144" y="0"/>
                  </a:lnTo>
                  <a:lnTo>
                    <a:pt x="48" y="48"/>
                  </a:lnTo>
                  <a:lnTo>
                    <a:pt x="0" y="144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066680" y="2438280"/>
            <a:ext cx="990720" cy="5335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2438280"/>
            <a:ext cx="990360" cy="5335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2438280"/>
            <a:ext cx="990360" cy="5335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5867280"/>
            <a:ext cx="3809880" cy="762120"/>
          </a:xfrm>
          <a:prstGeom prst="flowChartOnlineStorag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“enter” to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2743200" y="152280"/>
            <a:ext cx="3657240" cy="2133000"/>
            <a:chOff x="2743200" y="152280"/>
            <a:chExt cx="3657240" cy="21330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2743200" y="152280"/>
              <a:ext cx="3657240" cy="213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43200" y="152280"/>
              <a:ext cx="506160" cy="105516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240"/>
                  </a:moveTo>
                  <a:lnTo>
                    <a:pt x="96" y="288"/>
                  </a:lnTo>
                  <a:lnTo>
                    <a:pt x="96" y="192"/>
                  </a:lnTo>
                  <a:lnTo>
                    <a:pt x="144" y="144"/>
                  </a:lnTo>
                  <a:lnTo>
                    <a:pt x="192" y="96"/>
                  </a:lnTo>
                  <a:lnTo>
                    <a:pt x="192" y="0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895320" y="2222640"/>
            <a:ext cx="710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Use the Internet only when give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mission by your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14600" y="3616200"/>
            <a:ext cx="4267080" cy="3241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609480"/>
            <a:ext cx="990360" cy="5335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609480"/>
            <a:ext cx="1219320" cy="609840"/>
          </a:xfrm>
          <a:prstGeom prst="bevel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9480" y="1143000"/>
            <a:ext cx="75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Never type in an URL address. Use links found on the school library or resources 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8010" t="19303" r="9292" b="13594"/>
          <a:stretch/>
        </p:blipFill>
        <p:spPr>
          <a:xfrm>
            <a:off x="152280" y="2743200"/>
            <a:ext cx="5334120" cy="27543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25664" t="34682" r="14397" b="3636"/>
          <a:stretch/>
        </p:blipFill>
        <p:spPr>
          <a:xfrm>
            <a:off x="5029200" y="3456000"/>
            <a:ext cx="4114800" cy="3402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990720"/>
            <a:ext cx="769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Information found on the Internet, such as pictures, text, and documents should only b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v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nt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en a teacher has given permi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3371760"/>
            <a:ext cx="3429000" cy="2592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-885" r="46009" b="0"/>
          <a:stretch/>
        </p:blipFill>
        <p:spPr>
          <a:xfrm>
            <a:off x="5257800" y="3081240"/>
            <a:ext cx="309096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6094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Information found on the Internet is NOT always tru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971800" y="1897200"/>
            <a:ext cx="2895480" cy="2446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438280" y="458460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empus Sans ITC"/>
              </a:rPr>
              <a:t>Polka-dot cow found on an Austin farm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Some Internet pages contain commercials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lick on commercial li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7676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87480" y="30492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Never sign-up for special offer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 send electronic greet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19320" y="15429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14800" y="4038480"/>
            <a:ext cx="182880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2533680" cy="163188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2590920" y="-609480"/>
            <a:ext cx="3809520" cy="2513880"/>
            <a:chOff x="2590920" y="-609480"/>
            <a:chExt cx="3809520" cy="25138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2590920" y="-253800"/>
              <a:ext cx="3809520" cy="21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590920" y="-609480"/>
              <a:ext cx="527040" cy="1245960"/>
            </a:xfrm>
            <a:custGeom>
              <a:avLst/>
              <a:gdLst/>
              <a:ahLst/>
              <a:rect l="l" t="t" r="r" b="b"/>
              <a:pathLst>
                <a:path w="192" h="336">
                  <a:moveTo>
                    <a:pt x="0" y="336"/>
                  </a:moveTo>
                  <a:lnTo>
                    <a:pt x="96" y="336"/>
                  </a:lnTo>
                  <a:lnTo>
                    <a:pt x="144" y="288"/>
                  </a:lnTo>
                  <a:lnTo>
                    <a:pt x="96" y="288"/>
                  </a:lnTo>
                  <a:lnTo>
                    <a:pt x="96" y="240"/>
                  </a:lnTo>
                  <a:lnTo>
                    <a:pt x="144" y="240"/>
                  </a:lnTo>
                  <a:lnTo>
                    <a:pt x="192" y="240"/>
                  </a:lnTo>
                  <a:lnTo>
                    <a:pt x="192" y="144"/>
                  </a:lnTo>
                  <a:lnTo>
                    <a:pt x="192" y="0"/>
                  </a:lnTo>
                  <a:lnTo>
                    <a:pt x="48" y="48"/>
                  </a:lnTo>
                  <a:lnTo>
                    <a:pt x="0" y="24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33520" y="2297160"/>
            <a:ext cx="3429000" cy="2604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219320" y="838080"/>
            <a:ext cx="990360" cy="5335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914400"/>
            <a:ext cx="1219320" cy="609480"/>
          </a:xfrm>
          <a:prstGeom prst="bevel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30492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Press Ctrl-Alt-Delete, then logon,      each time you use a school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3429000" cy="1809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705720" y="5181480"/>
            <a:ext cx="1828800" cy="762120"/>
          </a:xfrm>
          <a:prstGeom prst="wedgeRoundRectCallout">
            <a:avLst>
              <a:gd name="adj1" fmla="val -171356"/>
              <a:gd name="adj2" fmla="val 675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r school domain name will appear 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16812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3123000"/>
            <a:ext cx="57913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Shruti"/>
              </a:rPr>
              <a:t>Enter your username and password.    Do not change the bottom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矵韰_x0019_ᙱ矵݈_x0014__x0012_" descr=""/>
          <p:cNvPicPr/>
          <p:nvPr/>
        </p:nvPicPr>
        <p:blipFill>
          <a:blip r:embed="rId2"/>
          <a:stretch/>
        </p:blipFill>
        <p:spPr>
          <a:xfrm>
            <a:off x="2286000" y="4343400"/>
            <a:ext cx="3543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09680" y="2109960"/>
            <a:ext cx="4343400" cy="3298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70160" y="1219320"/>
            <a:ext cx="63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Never login as someone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16812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60948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Tell your teacher if your login data does not work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if someone asks to use your login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666880" y="2390760"/>
            <a:ext cx="381024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181116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All equipment, such as keyboards, mice, laptops, digital cameras, and headphones, should be handled with care and resp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3913200"/>
            <a:ext cx="2057400" cy="2030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156120" y="3913200"/>
            <a:ext cx="2450880" cy="2006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172200" y="3913200"/>
            <a:ext cx="2374920" cy="200664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2743200" y="152280"/>
            <a:ext cx="3733560" cy="1752120"/>
            <a:chOff x="2743200" y="152280"/>
            <a:chExt cx="3733560" cy="175212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2743200" y="171000"/>
              <a:ext cx="373356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43640" y="152280"/>
              <a:ext cx="403560" cy="66996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288"/>
                  </a:moveTo>
                  <a:lnTo>
                    <a:pt x="96" y="288"/>
                  </a:lnTo>
                  <a:lnTo>
                    <a:pt x="144" y="240"/>
                  </a:lnTo>
                  <a:lnTo>
                    <a:pt x="96" y="192"/>
                  </a:lnTo>
                  <a:lnTo>
                    <a:pt x="144" y="192"/>
                  </a:lnTo>
                  <a:lnTo>
                    <a:pt x="192" y="192"/>
                  </a:lnTo>
                  <a:lnTo>
                    <a:pt x="192" y="144"/>
                  </a:lnTo>
                  <a:lnTo>
                    <a:pt x="192" y="48"/>
                  </a:lnTo>
                  <a:lnTo>
                    <a:pt x="144" y="0"/>
                  </a:lnTo>
                  <a:lnTo>
                    <a:pt x="48" y="0"/>
                  </a:lnTo>
                  <a:lnTo>
                    <a:pt x="0" y="96"/>
                  </a:lnTo>
                  <a:lnTo>
                    <a:pt x="0" y="192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219320" y="533520"/>
            <a:ext cx="990360" cy="5331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609480"/>
            <a:ext cx="1219320" cy="609840"/>
          </a:xfrm>
          <a:prstGeom prst="bevel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95280" y="121932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All work completed using technology resources must be your 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14600" y="2852640"/>
            <a:ext cx="40384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1295280"/>
            <a:ext cx="6095880" cy="26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Information found on TV, video, and computers may be the property of someone el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 this information only with permi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8120" y="4125960"/>
            <a:ext cx="28191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36576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have any questions, be sure to ask your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6002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technology is a privilege, which can be los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5987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s of this presentation are courtesy of Plano ISD. Used with permission. (http://k-12.pisd.edu/guide/elemen/index.ht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743200"/>
            <a:ext cx="1219320" cy="609480"/>
          </a:xfrm>
          <a:prstGeom prst="bevel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711360"/>
            <a:ext cx="8610480" cy="16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Before leaving the computer la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e cups are taken off the moni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6320" y="2971800"/>
            <a:ext cx="4343400" cy="3200400"/>
            <a:chOff x="76320" y="2971800"/>
            <a:chExt cx="4343400" cy="3200400"/>
          </a:xfrm>
        </p:grpSpPr>
        <p:sp>
          <p:nvSpPr>
            <p:cNvPr id="72" name=""/>
            <p:cNvSpPr/>
            <p:nvPr/>
          </p:nvSpPr>
          <p:spPr>
            <a:xfrm>
              <a:off x="76320" y="2971800"/>
              <a:ext cx="4343400" cy="3200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228600" y="3048120"/>
              <a:ext cx="4038480" cy="302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4648320" y="2971800"/>
            <a:ext cx="4190760" cy="3276720"/>
            <a:chOff x="4648320" y="2971800"/>
            <a:chExt cx="4190760" cy="3276720"/>
          </a:xfrm>
        </p:grpSpPr>
        <p:sp>
          <p:nvSpPr>
            <p:cNvPr id="75" name=""/>
            <p:cNvSpPr/>
            <p:nvPr/>
          </p:nvSpPr>
          <p:spPr>
            <a:xfrm>
              <a:off x="4648320" y="2971800"/>
              <a:ext cx="4190760" cy="3276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4724280" y="3048120"/>
              <a:ext cx="4038840" cy="3028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609480"/>
            <a:ext cx="74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sure to log off of the computer, and leave all equipment in good order for the next pers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648320" cy="29592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477120" y="2438280"/>
            <a:ext cx="2666880" cy="2241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0" y="4038480"/>
            <a:ext cx="2895480" cy="247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71600" y="38088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 to see that the headphones are hung u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76520" y="1676520"/>
            <a:ext cx="5867280" cy="4343400"/>
            <a:chOff x="1676520" y="1676520"/>
            <a:chExt cx="5867280" cy="4343400"/>
          </a:xfrm>
        </p:grpSpPr>
        <p:sp>
          <p:nvSpPr>
            <p:cNvPr id="83" name=""/>
            <p:cNvSpPr/>
            <p:nvPr/>
          </p:nvSpPr>
          <p:spPr>
            <a:xfrm>
              <a:off x="1676520" y="1676520"/>
              <a:ext cx="5867280" cy="4343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1828800" y="1771560"/>
              <a:ext cx="5562720" cy="41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43040" y="716040"/>
            <a:ext cx="748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 the printers for extra paper.  Don’t leave them empty for the next use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724280" y="2362320"/>
            <a:ext cx="4419720" cy="3504960"/>
            <a:chOff x="4724280" y="2362320"/>
            <a:chExt cx="4419720" cy="3504960"/>
          </a:xfrm>
        </p:grpSpPr>
        <p:sp>
          <p:nvSpPr>
            <p:cNvPr id="87" name=""/>
            <p:cNvSpPr/>
            <p:nvPr/>
          </p:nvSpPr>
          <p:spPr>
            <a:xfrm>
              <a:off x="4724280" y="2362320"/>
              <a:ext cx="4419720" cy="3504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4800600" y="2457360"/>
              <a:ext cx="4343400" cy="325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0" y="2362320"/>
            <a:ext cx="4419720" cy="3504960"/>
            <a:chOff x="0" y="2362320"/>
            <a:chExt cx="4419720" cy="3504960"/>
          </a:xfrm>
        </p:grpSpPr>
        <p:sp>
          <p:nvSpPr>
            <p:cNvPr id="90" name=""/>
            <p:cNvSpPr/>
            <p:nvPr/>
          </p:nvSpPr>
          <p:spPr>
            <a:xfrm>
              <a:off x="0" y="2362320"/>
              <a:ext cx="4419720" cy="3504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0" y="2438280"/>
              <a:ext cx="4343400" cy="325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2880" y="609480"/>
            <a:ext cx="90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e chairs are pushed in proper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0" y="1981080"/>
            <a:ext cx="4572000" cy="3505320"/>
            <a:chOff x="4572000" y="1981080"/>
            <a:chExt cx="4572000" cy="3505320"/>
          </a:xfrm>
        </p:grpSpPr>
        <p:sp>
          <p:nvSpPr>
            <p:cNvPr id="94" name=""/>
            <p:cNvSpPr/>
            <p:nvPr/>
          </p:nvSpPr>
          <p:spPr>
            <a:xfrm>
              <a:off x="4572000" y="1981080"/>
              <a:ext cx="4495680" cy="3505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>
              <a:lum bright="6000"/>
            </a:blip>
            <a:stretch/>
          </p:blipFill>
          <p:spPr>
            <a:xfrm>
              <a:off x="4648320" y="2057400"/>
              <a:ext cx="4495680" cy="33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"/>
          <p:cNvGrpSpPr/>
          <p:nvPr/>
        </p:nvGrpSpPr>
        <p:grpSpPr>
          <a:xfrm>
            <a:off x="0" y="1981080"/>
            <a:ext cx="4495680" cy="3505320"/>
            <a:chOff x="0" y="1981080"/>
            <a:chExt cx="4495680" cy="3505320"/>
          </a:xfrm>
        </p:grpSpPr>
        <p:sp>
          <p:nvSpPr>
            <p:cNvPr id="97" name=""/>
            <p:cNvSpPr/>
            <p:nvPr/>
          </p:nvSpPr>
          <p:spPr>
            <a:xfrm>
              <a:off x="0" y="1981080"/>
              <a:ext cx="4495680" cy="3505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0" y="2019240"/>
              <a:ext cx="4419720" cy="331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609480"/>
            <a:ext cx="741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When you use a laptop, shut down rather than log off when you are finished.  Make sure all lights are out prior to closing the li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60383" r="76607" b="0"/>
          <a:stretch/>
        </p:blipFill>
        <p:spPr>
          <a:xfrm>
            <a:off x="685800" y="2971800"/>
            <a:ext cx="2638440" cy="33526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609480"/>
            <a:ext cx="7410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replacing the laptop in a laptop cart, be sure to put the laptop in the slot number that matches the machine.  Reconnect the electrical pl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3314880"/>
            <a:ext cx="4724640" cy="3543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86400" y="3352680"/>
            <a:ext cx="2792520" cy="3505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7T02:13:13Z</dcterms:created>
  <dc:creator>Bockhorn</dc:creator>
  <dc:description/>
  <dc:language>en-US</dc:language>
  <cp:lastModifiedBy>xpsetup</cp:lastModifiedBy>
  <dcterms:modified xsi:type="dcterms:W3CDTF">2006-09-05T22:07:15Z</dcterms:modified>
  <cp:revision>30</cp:revision>
  <dc:subject/>
  <dc:title>No Slide Title</dc:title>
</cp:coreProperties>
</file>